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13A0-3CC1-4C35-84D5-BE454E77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0A28-331B-43C2-B8D9-65CF4DFD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C804-2EE5-4114-A744-0643814B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2F7F-4617-40C1-96C9-466A3DE5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41E2-DE86-4B44-BC65-7A872F69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2428-73CA-402C-BD59-2E52949C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8923-AEF5-42FD-AAA7-B94F2B63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A8C9-9AA9-4A81-85C8-8BC830B1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9B45-FB5C-4CA4-8B87-F134C696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F3AA-6530-4AEB-AEB6-2EB3ABA2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2DCC-2362-42C7-8A07-AB91E913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FEB5-F95E-4407-B535-80362084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A720-1E2A-4176-84E4-AFBE3B43D47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255600" y="993600"/>
            <a:ext cx="8278920" cy="531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409572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1"/>
          <a:stretch/>
        </p:blipFill>
        <p:spPr>
          <a:xfrm>
            <a:off x="3219480" y="5241960"/>
            <a:ext cx="3619440" cy="79848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3"/>
          <a:stretch/>
        </p:blipFill>
        <p:spPr>
          <a:xfrm>
            <a:off x="1384200" y="1916280"/>
            <a:ext cx="4095720" cy="87624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4"/>
          <a:stretch/>
        </p:blipFill>
        <p:spPr>
          <a:xfrm>
            <a:off x="2419200" y="4730760"/>
            <a:ext cx="6121440" cy="46368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5"/>
          <a:stretch/>
        </p:blipFill>
        <p:spPr>
          <a:xfrm>
            <a:off x="2766960" y="4048200"/>
            <a:ext cx="4681440" cy="62064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6"/>
          <a:stretch/>
        </p:blipFill>
        <p:spPr>
          <a:xfrm>
            <a:off x="1352520" y="3425760"/>
            <a:ext cx="6462720" cy="62244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7"/>
          <a:stretch/>
        </p:blipFill>
        <p:spPr>
          <a:xfrm>
            <a:off x="1322280" y="298116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8"/>
          <a:stretch/>
        </p:blipFill>
        <p:spPr>
          <a:xfrm>
            <a:off x="463680" y="1768320"/>
            <a:ext cx="865080" cy="4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2" descr=""/>
          <p:cNvPicPr/>
          <p:nvPr/>
        </p:nvPicPr>
        <p:blipFill>
          <a:blip r:embed="rId1"/>
          <a:stretch/>
        </p:blipFill>
        <p:spPr>
          <a:xfrm>
            <a:off x="341280" y="171288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1409760" y="2349360"/>
            <a:ext cx="2944800" cy="21592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4"/>
          <a:stretch/>
        </p:blipFill>
        <p:spPr>
          <a:xfrm>
            <a:off x="1407960" y="4724280"/>
            <a:ext cx="15112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tent Placeholder 2" descr=""/>
          <p:cNvPicPr/>
          <p:nvPr/>
        </p:nvPicPr>
        <p:blipFill>
          <a:blip r:embed="rId1"/>
          <a:stretch/>
        </p:blipFill>
        <p:spPr>
          <a:xfrm>
            <a:off x="341280" y="2792520"/>
            <a:ext cx="8364600" cy="106668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16462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3"/>
          <a:stretch/>
        </p:blipFill>
        <p:spPr>
          <a:xfrm>
            <a:off x="682560" y="3718080"/>
            <a:ext cx="82296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2" descr=""/>
          <p:cNvPicPr/>
          <p:nvPr/>
        </p:nvPicPr>
        <p:blipFill>
          <a:blip r:embed="rId1"/>
          <a:stretch/>
        </p:blipFill>
        <p:spPr>
          <a:xfrm>
            <a:off x="341280" y="1639800"/>
            <a:ext cx="8193240" cy="168912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3"/>
          <a:stretch/>
        </p:blipFill>
        <p:spPr>
          <a:xfrm>
            <a:off x="506520" y="3322800"/>
            <a:ext cx="805788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54:30Z</dcterms:created>
  <dc:creator/>
  <dc:description/>
  <dc:language>en-US</dc:language>
  <cp:lastModifiedBy/>
  <dcterms:modified xsi:type="dcterms:W3CDTF">2011-12-08T11:54:35Z</dcterms:modified>
  <cp:revision>1</cp:revision>
  <dc:subject/>
  <dc:title/>
</cp:coreProperties>
</file>